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A9B2-1EE4-4EA5-90BB-0ED086938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34DF-8A88-4A93-96AF-73DED12D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78E-A001-4955-9CB4-0872CA77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62F-F06B-4E29-9DBA-73595498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9D9-336C-49E6-9506-B0B4910D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D79-1DF9-4A9F-A83F-E8256E57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E210-C9A2-47B8-A1B6-CBA5318C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3231-B6B9-4B01-942B-78960D98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218D-4690-4174-9A18-F68A724C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FE81-D2CD-45B0-8DDC-0266A3BA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125C-E5D2-481C-BFF2-73B5835D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B92C-07EB-4DB5-9079-54125D41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9C80-40D1-4A6A-BAA1-2145AA7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653-2BC1-46FC-8ABE-7FA771E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F79C-C2EA-4C74-AE90-C9365A6D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9DB4-C07F-42A9-8B86-F98C7266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7A42-BB03-418C-8793-26C72CB3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8B64-E1FB-4915-8F2E-4BCAF800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91FE-256D-4660-87AE-109CEC8B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DF8-0158-454C-A9E5-D480C3C6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2D0-ECB9-4CA8-8E17-DEDDCFAB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E4F-9765-4389-BF97-CC6B3203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978-87F4-479E-A400-4CC28CCA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A1B-ECBB-40F2-971D-3DBF28A0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334-3427-40D5-A234-66711FFB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B90-5ECB-43FD-A0C9-6A983576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BEE-E92A-4E53-BE52-11E9DDFF910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EFD5-C8C5-47DD-B377-3AB498EC874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ysics Course of Stud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133720"/>
            <a:ext cx="534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Explain linear, uniform circular, and projectile motions using one- and two-dimensional vector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Explaining the significance of slope and area under a curve when graphing distance-time or velocity-time dat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ope and area of a velocity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 curve giving acceleration and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tance traveled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scribing forces that act on an object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rawing a free-body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agram showing all forces acting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 an object and resultant effects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 friction, gravity, and norma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rce on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 object sliding down an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clined plan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3571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5730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Define the law of conservation of momentum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alculating the momentum of a single object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 Calculating momenta of two objects before and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fter collision in one-dimensional motio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  Explain planetary motion and navigation in space in terms of Kepler's and Newton's laws. 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  Describe quantitative relationships for velocity, acceleration, force, work, power, potential and kinetic energy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 the concept of entropy as it relates to heating and cooling, using the laws of thermodynamic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ing qualitative and quantitative methods to show the relationship between changes in heat energy and changes in temperatur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3571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457200"/>
            <a:ext cx="5426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be wave behavior in terms of reflection, refraction, diffraction, constructive and destructive wave interference, and the Doppler effect. 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 Explaining reasons for differences in speed, frequency and wavelength of a propagating wave in varying materials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 Describing uses of different components of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electromagnetic spectrum, including X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ys, and gamma radiation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  Describe the properties of reflection, refraction, and diffraction. Examples:  tracing path of light through mirrors, lenses, and prisms, predicting formation of reflected images through tracing of rays 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monstrating the path of light through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rrors, lenses, and prism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  tracing the path of a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racted light ray through prisms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ing Snell's law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scribing the effect of filters and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larization on the transmission of light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monstrating particle and wave dualit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scribing the change of wave speed in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fferent medi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  Summarize similarities in the calculation of electrical, magnetic, and gravitational forces between objects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termining the force on charged particles using Coulomb's law </a:t>
            </a:r>
            <a:br>
              <a:rPr sz="14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9.  Describe quantitative relationships amo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ge, current, electrical potential energ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tential difference, resistance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al power for simple series, paralle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 combination direct curr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C) circui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21:56:34Z</dcterms:created>
  <dc:creator>eholsenbeck</dc:creator>
  <dc:description/>
  <cp:keywords/>
  <dc:language>en-US</dc:language>
  <cp:lastModifiedBy>eholsenbeck</cp:lastModifiedBy>
  <dcterms:modified xsi:type="dcterms:W3CDTF">2008-05-28T22:17:37Z</dcterms:modified>
  <cp:revision>9</cp:revision>
  <dc:subject/>
  <dc:title>Physics Course of Stu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